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4D356-29D1-4504-8480-B77B1BB47D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50A125-7B0B-4378-B74F-0BB062552A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A16156-BA32-47D5-9E91-09613480D9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57F59E-5438-45D2-99B4-48AF98B260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CCF60-00F1-4501-BBC9-1A8D451BA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DAC9B-7F69-4FDF-BD3B-1DE67DF1C1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6F024D-E1E9-4872-9325-4A31315936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786B39AB-0B77-4DC6-BDF7-68793954A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6DDC0D5-2498-436F-8A88-41612455E4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5C21F7-8CBE-40DD-B1A0-71509C47A2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826775-3870-430A-B773-BAF88E597C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B12EC3-45E0-43B9-AC4C-DE70D0169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Times New Roman"/>
              </a:rPr>
              <a:t>Page </a:t>
            </a:r>
            <a:fld id="{891DFB57-706F-417D-A29C-2F4F613F18C3}" type="slidenum">
              <a:rPr b="0" lang="en-GB"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2743200"/>
            <a:ext cx="44956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men paper examples for Language and literature</a:t>
            </a:r>
            <a:br>
              <a:rPr sz="3000"/>
            </a:br>
            <a:br>
              <a:rPr sz="3000"/>
            </a:br>
            <a:r>
              <a:rPr b="1" lang="en-GB" sz="3000" spc="-1" strike="noStrike">
                <a:solidFill>
                  <a:srgbClr val="0041c4"/>
                </a:solidFill>
                <a:latin typeface="Arial"/>
              </a:rPr>
              <a:t>First Exams 2013</a:t>
            </a:r>
            <a:endParaRPr b="1" lang="en-US" sz="3000" spc="-1" strike="noStrike">
              <a:solidFill>
                <a:srgbClr val="0041c4"/>
              </a:solidFill>
              <a:latin typeface="Arial"/>
            </a:endParaRPr>
          </a:p>
        </p:txBody>
      </p:sp>
      <p:sp>
        <p:nvSpPr>
          <p:cNvPr id="84" name="PlaceHolder 2"/>
          <p:cNvSpPr>
            <a:spLocks noGrp="1"/>
          </p:cNvSpPr>
          <p:nvPr>
            <p:ph type="subTitle"/>
          </p:nvPr>
        </p:nvSpPr>
        <p:spPr>
          <a:xfrm>
            <a:off x="4572000" y="5791320"/>
            <a:ext cx="4038480" cy="457200"/>
          </a:xfrm>
          <a:prstGeom prst="rect">
            <a:avLst/>
          </a:prstGeom>
          <a:noFill/>
          <a:ln w="0">
            <a:noFill/>
          </a:ln>
        </p:spPr>
        <p:txBody>
          <a:bodyPr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1c4"/>
                </a:solidFill>
                <a:latin typeface="Arial"/>
              </a:rPr>
              <a:t>Subject Specific Seminars Jan- March 2011</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10" name=""/>
          <p:cNvSpPr txBox="1"/>
          <p:nvPr/>
        </p:nvSpPr>
        <p:spPr>
          <a:xfrm>
            <a:off x="576360" y="1981080"/>
            <a:ext cx="7866000" cy="4114800"/>
          </a:xfrm>
          <a:prstGeom prst="rect">
            <a:avLst/>
          </a:prstGeom>
          <a:noFill/>
          <a:ln w="0">
            <a:noFill/>
          </a:ln>
        </p:spPr>
        <p:txBody>
          <a:bodyPr anchor="t">
            <a:normAutofit/>
          </a:bodyPr>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erature is often said to be timeless. To what extent is this true of at least two / both works you have studied?</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consider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probably characterization and theme) evident in the works studied and offer examples to support whether or not these aspects will enable the works to survive the changing contexts of time.</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examine more closely various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including perhaps, writing style, literary traditions, genre type) in the works studied and will decide to what degree these aspects will enable works to withstand the contexts of time, offering, perhaps, a more nuanced response in that some aspects will be hindered by changing contexts and others will not.</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4BC35C4-0CED-427A-BEAD-E5A514ECBB8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L paper 1 – textual analysi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rite a textual analysis on </a:t>
            </a:r>
            <a:r>
              <a:rPr b="1" i="1" lang="en-US" sz="2400" spc="-1" strike="noStrike">
                <a:solidFill>
                  <a:srgbClr val="000000"/>
                </a:solidFill>
                <a:latin typeface="Arial"/>
              </a:rPr>
              <a:t>one of the following texts. Include comments on the significance of context, </a:t>
            </a:r>
            <a:r>
              <a:rPr b="0" i="1" lang="en-US" sz="2400" spc="-1" strike="noStrike">
                <a:solidFill>
                  <a:srgbClr val="000000"/>
                </a:solidFill>
                <a:latin typeface="Arial"/>
              </a:rPr>
              <a:t>audience, purpose, and formal and stylistic features.</a:t>
            </a: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E59D959A-D6A5-49E0-A921-B2488EC2987D}"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xample text</a:t>
            </a:r>
            <a:endParaRPr b="1" lang="en-US" sz="3000" spc="-1" strike="noStrike">
              <a:solidFill>
                <a:srgbClr val="0041c4"/>
              </a:solidFill>
              <a:latin typeface="Arial"/>
            </a:endParaRPr>
          </a:p>
        </p:txBody>
      </p:sp>
      <p:sp>
        <p:nvSpPr>
          <p:cNvPr id="116"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You ask me what is poverty? Listen to me. Here I am, dirty, smelly, and with no “proper” underwear on and with the stench of my rotting teeth near you. I will tell you. Listen to me. Listen without pity. I cannot use your pity. Listen with understanding. Put yourself in my dirty, worn out, ill-fitting shoes, and hear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getting up every morning from a dirt- and illness-stained mattress. The sheets have long since been used for diapers. Poverty is living in a smell that never leaves. This is a smell of urine, sour milk and spoiling food sometimes joined with the strong smell of long-cooked onions. … It is the smell of the mattresses where years of “accidents” have happened. It is the smell of milk which has gone sour because the refrigerator long has not worked, and it costs money to get it fixed. It is the smell of rotting garbage. I could bury it, but where is the shovel? Shovels cost money. …</a:t>
            </a:r>
            <a:endParaRPr b="0" lang="en-US" sz="18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DEE44AB-B160-4A74-A25F-8356078EC4DD}"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
          <p:cNvSpPr txBox="1"/>
          <p:nvPr/>
        </p:nvSpPr>
        <p:spPr>
          <a:xfrm>
            <a:off x="576360" y="1981080"/>
            <a:ext cx="78660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Poverty is dirt. You can say in your clean clothes coming from your clean house, “Anybody can be clean.” Let me explain about housekeeping with no money. For breakfast I give my children grits with no oleo or cornbread without eggs and oleo. This does not use up many dishes. What dishes there are, I wash in cold water with no soap. Even the cheapest soap has to be saved for the baby’s diapers. Look at my hands, so cracked and red. Once I saved for two months to buy a jar of Vaseline for my hands and the baby’s diaper rash. When I had saved enough, I went to buy it and the price had gone up two cents. The baby and I suffered on.</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verty is staying up all night on cold nights to watch the fire knowing one spark on the newspapers covering the walls means your sleeping child dies in flames. In summer, poverty is watching gnats and flies devour your baby’s tears when he cries. The screens are torn and you pay so little rent you know they will never be fixed. Poverty means</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774BAC7-60F9-4C31-A54D-C15DDCC0838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ects in your food, in your nose, in your eyes, and crawling over you when you sleep. Poverty is hoping it never rains because diapers won’t dry when it rains and soon you are using newspapers. Poverty is seeing your children forever with runny noses. Paper handkerchiefs cost money and all your rags you need for other things. Even more costly are antihistamines. Poverty is cooking without food and </a:t>
            </a:r>
            <a:r>
              <a:rPr b="0" lang="en-GB" sz="1800" spc="-1" strike="noStrike">
                <a:solidFill>
                  <a:srgbClr val="000000"/>
                </a:solidFill>
                <a:latin typeface="Arial"/>
              </a:rPr>
              <a:t>cleaning without soa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asking for help. Have you ever had to ask for help, knowing your children will suffer unless you get it? Think about asking for a loan from a relative, if this is the only way you can imagine asking for help. I will tell you how it feels. You find out where the office is that you are supposed to visit. You circle that block four or five times. Thinking of your children, you go in. Everyone is very busy. Finally, someone comes out and you tell her that you need help. That never is the person that</a:t>
            </a:r>
            <a:endParaRPr b="0" lang="en-US" sz="18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9EAB437-A85B-4988-BEA4-61F167B39D95}"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need to see. You go see another person, and after spilling the whole shame of your poverty all over the desk between you, you find that this isn’t the right office after all – you must repeat the whole process, and it never is any easier at the next plac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ave come out of my despair to tell you this. Remember I did not come from another place or another time. Others like me are all around you. Look at us with an angry heart, anger that will </a:t>
            </a:r>
            <a:r>
              <a:rPr b="0" lang="en-GB" sz="1800" spc="-1" strike="noStrike">
                <a:solidFill>
                  <a:srgbClr val="000000"/>
                </a:solidFill>
                <a:latin typeface="Arial"/>
              </a:rPr>
              <a:t>help you help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the first- and second-person.</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sensory detail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4683152-2878-4268-AAF8-78508CD9D515}"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 good to very good</a:t>
            </a:r>
            <a:endParaRPr b="1" lang="en-US" sz="3000" spc="-1" strike="noStrike">
              <a:solidFill>
                <a:srgbClr val="0041c4"/>
              </a:solidFill>
              <a:latin typeface="Arial"/>
            </a:endParaRPr>
          </a:p>
        </p:txBody>
      </p:sp>
      <p:sp>
        <p:nvSpPr>
          <p:cNvPr id="128" name=""/>
          <p:cNvSpPr txBox="1"/>
          <p:nvPr/>
        </p:nvSpPr>
        <p:spPr>
          <a:xfrm>
            <a:off x="576360" y="1981080"/>
            <a:ext cx="7866000" cy="4114800"/>
          </a:xfrm>
          <a:prstGeom prst="rect">
            <a:avLst/>
          </a:prstGeom>
          <a:noFill/>
          <a:ln w="0">
            <a:noFill/>
          </a:ln>
        </p:spPr>
        <p:txBody>
          <a:bodyPr anchor="t">
            <a:normAutofit fontScale="97000"/>
          </a:bodyPr>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to very good analysis will also:</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ffective comments on the use of first and second person and consider the effects of directly addressing the reader</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you” refers both to the reader (“I will tell you”) and to the poor person (“you pay so little rent”), perhaps noting that one effect of this shift or double meaning is that it puts the reader in the speaker’s “dirty, worn out, ill-fitting shoe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effects of key stylistic element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sensory details in the introductory paragraph evoke a close (uncomfortable?) proximity between the speaker and the reader/listener (“Here I am, dirty, … with the stench of my rotting teeth near you”)</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essay describes the difficulties of “asking for help” but that it does just that (“help you help me”)</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9715ED3A-B482-4C95-BD39-0ED2EA66FEC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3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ssible resonances of the statement, “remember I did not come from another place or another time,” perhaps noting that the essay was published 40 years ago and that some of its references (see footnotes) suggest that the speaker is from the southern USA, or noting that poverty is universal but that its consequences are (or are not) felt differently in different place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AF17C89-0DE3-47D6-A3CA-7223748EE95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P1</a:t>
            </a:r>
            <a:endParaRPr b="1" lang="en-US" sz="3000" spc="-1" strike="noStrike">
              <a:solidFill>
                <a:srgbClr val="0041c4"/>
              </a:solidFill>
              <a:latin typeface="Arial"/>
            </a:endParaRPr>
          </a:p>
        </p:txBody>
      </p:sp>
      <p:sp>
        <p:nvSpPr>
          <p:cNvPr id="13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nalice y compare los dos textos siguientes. Incluya comentarios sobre las semejanzas y diferencias entre ellos, así como el contexto, el destinatario, el propósito y los rasgos formales y estilísticos.</a:t>
            </a:r>
            <a:endParaRPr b="0" lang="en-US" sz="24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8F7BBE3B-13C6-48A8-8709-2E145F30303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M P1</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riba un análisis de </a:t>
            </a:r>
            <a:r>
              <a:rPr b="1" i="1" lang="es-ES" sz="2400" spc="-1" strike="noStrike">
                <a:solidFill>
                  <a:srgbClr val="000000"/>
                </a:solidFill>
                <a:latin typeface="Arial"/>
              </a:rPr>
              <a:t>uno de los textos siguientes. Incluya comentarios sobre el contexto, el destinatario, </a:t>
            </a:r>
            <a:r>
              <a:rPr b="0" i="1" lang="es-ES" sz="2400" spc="-1" strike="noStrike">
                <a:solidFill>
                  <a:srgbClr val="000000"/>
                </a:solidFill>
                <a:latin typeface="Arial"/>
              </a:rPr>
              <a:t>el propósito y los rasgos formales y estilísticos.</a:t>
            </a:r>
            <a:endParaRPr b="0" lang="en-US" sz="24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42712F0-8371-48F9-8D68-083B31FAA6F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P1 comparative commentary</a:t>
            </a:r>
            <a:endParaRPr b="1" lang="en-US" sz="3000" spc="-1" strike="noStrike">
              <a:solidFill>
                <a:srgbClr val="0041c4"/>
              </a:solidFill>
              <a:latin typeface="Arial"/>
            </a:endParaRPr>
          </a:p>
        </p:txBody>
      </p:sp>
      <p:sp>
        <p:nvSpPr>
          <p:cNvPr id="8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alyse and compare the following two texts. Include comments on the similarities and differences between the texts and the significance of context, audience, purpose, and formal and stylistic features.</a:t>
            </a:r>
            <a:endParaRPr b="0" lang="en-US" sz="2400" spc="-1" strike="noStrike">
              <a:solidFill>
                <a:srgbClr val="000000"/>
              </a:solidFill>
              <a:latin typeface="Arial"/>
            </a:endParaRPr>
          </a:p>
        </p:txBody>
      </p:sp>
      <p:sp>
        <p:nvSpPr>
          <p:cNvPr id="8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EF51B5E3-CDE6-4E3B-AC8C-2A4882784C3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o 1</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ar los hijo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é nombre crees que deba ponerle?” me dice una amiga que tiene seis meses de embarazo y espera un varoncito. En un primer impulso, le respondo con el habitual “José” y la mueca de su cara me obliga a buscar algo menos tradicional. Paso revista entonces al amplio catálogo que incluye Mateo, Lázaro o Fabián, pero ninguno le agrada a la exigente madre. Si esta misma situación hubiera ocurrido veinte años atrás, el bebé habría cargado con una “i griega”, como muchos de los nacidos en las décadas del setenta y el ochenta. Sin embargo, la exótica moda de usar la penúltima letra del abecedario, parece haber quedado superada.</a:t>
            </a: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Durante varios lustros, los cubanos nombraron a sus hijos con una libertad que no lograban experimentar en otras esferas de la vida. La grisura que proyectaba el mercado racionado y el control estatal sobre </a:t>
            </a:r>
            <a:r>
              <a:rPr b="0" lang="en-GB" sz="2400" spc="-1" strike="noStrike">
                <a:solidFill>
                  <a:srgbClr val="000000"/>
                </a:solidFill>
                <a:latin typeface="Arial"/>
              </a:rPr>
              <a:t>www.vocescubanas.com/boringhomeutopics</a:t>
            </a:r>
            <a:endParaRPr b="0" lang="en-US" sz="24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a:t>
            </a:r>
            <a:fld id="{71A87A3C-9A75-4A05-805D-01E77B4DE04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43" name=""/>
          <p:cNvSpPr txBox="1"/>
          <p:nvPr/>
        </p:nvSpPr>
        <p:spPr>
          <a:xfrm>
            <a:off x="576360" y="1981080"/>
            <a:ext cx="7866000" cy="4114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nuestra existencia se esfumaba cuando se inscribía a un recién nacido en el registro civil. Los padres jugueteaban con el lenguaje y creaban verdaderos trabalenguas, como el </a:t>
            </a:r>
            <a:r>
              <a:rPr b="0" lang="en-GB" sz="1800" spc="-1" strike="noStrike">
                <a:solidFill>
                  <a:srgbClr val="000000"/>
                </a:solidFill>
                <a:latin typeface="Arial"/>
              </a:rPr>
              <a:t>que exhibe un famoso jugador de beisbol </a:t>
            </a:r>
            <a:r>
              <a:rPr b="0" lang="es-ES" sz="1800" spc="-1" strike="noStrike">
                <a:solidFill>
                  <a:srgbClr val="000000"/>
                </a:solidFill>
                <a:latin typeface="Arial"/>
              </a:rPr>
              <a:t>llamado “Vicyohandri”. A algunos, incluso, les adjudicaron la rara composición “Yesdasí”, mezcla de la palabra “sí” en inglés, ruso y español.</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fortunadamente, desde hace unos años soplan aires más calmados a la hora de nominar a un niño. Toda una generación que se había sentido nombrada como si de un experimento de laboratorio se tratara, prefiere ahora volver a la vieja usanza. Así que después de varios días, mi amiga me ha llamado para contarme su decisión: el bebé se llamará Juan Carlos. Al otro lado de la línea, yo respiro aliviada: la cordura ha regresado al acto de nombrar los hijo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ción Y http://www.desdecuba.com/generaciony</a:t>
            </a:r>
            <a:endParaRPr b="0" lang="en-US" sz="1800" spc="-1" strike="noStrike">
              <a:solidFill>
                <a:srgbClr val="000000"/>
              </a:solidFill>
              <a:latin typeface="Arial"/>
            </a:endParaRPr>
          </a:p>
        </p:txBody>
      </p:sp>
      <p:sp>
        <p:nvSpPr>
          <p:cNvPr id="14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F6CA31F-A41A-4F16-9B35-101990D42535}"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uiding questions</a:t>
            </a:r>
            <a:endParaRPr b="1" lang="en-US" sz="3000" spc="-1" strike="noStrike">
              <a:solidFill>
                <a:srgbClr val="0041c4"/>
              </a:solidFill>
              <a:latin typeface="Arial"/>
            </a:endParaRPr>
          </a:p>
        </p:txBody>
      </p:sp>
      <p:sp>
        <p:nvSpPr>
          <p:cNvPr id="14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uál es la relación entre el título de este texto, la sensación de libertad para los cubanos y l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rdura a que refiere el final?</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Qué representaba la exótica moda de usar “i griega” en los nombres de los niños?</a:t>
            </a:r>
            <a:endParaRPr b="0" lang="en-US" sz="2400" spc="-1" strike="noStrike">
              <a:solidFill>
                <a:srgbClr val="000000"/>
              </a:solidFill>
              <a:latin typeface="Arial"/>
            </a:endParaRPr>
          </a:p>
        </p:txBody>
      </p:sp>
      <p:sp>
        <p:nvSpPr>
          <p:cNvPr id="14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D6FACB4-B56D-443E-A345-972C9797497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49"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has obras literarias tienen un final abierto. Analice de qué manera estos finales influyen en el desarrollo de la obras, haciendo alusión al menos a dos de ell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referirse al menos a dos obras de diferentes autores, contextualizarlas e identificar en ellas cómo son algunos de los finales abiertos y de qué manera influencian el desarrollo de las misma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incluyendo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8E3D9936-A711-4C11-957E-C05C20B7FE9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5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ice los elementos que definen la originalidad de una obra literaria. Utilice como referencia ejemplos de, al menos, dos de las obras estudiad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describir cómo la originalidad de un autor depende de muchos factores y analizar algunos de ello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e incluir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E490A1C-9ABB-4BBC-8F0A-8361B7D528E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1</a:t>
            </a:r>
            <a:endParaRPr b="1" lang="en-US" sz="3000" spc="-1" strike="noStrike">
              <a:solidFill>
                <a:srgbClr val="0041c4"/>
              </a:solidFill>
              <a:latin typeface="Arial"/>
            </a:endParaRPr>
          </a:p>
        </p:txBody>
      </p:sp>
      <p:sp>
        <p:nvSpPr>
          <p:cNvPr id="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0AD0018-2133-4E3A-AC23-8CCBC3FDC02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pic>
        <p:nvPicPr>
          <p:cNvPr id="90" name="Picture 2" descr=""/>
          <p:cNvPicPr/>
          <p:nvPr/>
        </p:nvPicPr>
        <p:blipFill>
          <a:blip r:embed="rId1"/>
          <a:stretch/>
        </p:blipFill>
        <p:spPr>
          <a:xfrm>
            <a:off x="547560" y="1971720"/>
            <a:ext cx="7866360" cy="253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2</a:t>
            </a:r>
            <a:endParaRPr b="1" lang="en-US" sz="3000" spc="-1" strike="noStrike">
              <a:solidFill>
                <a:srgbClr val="0041c4"/>
              </a:solidFill>
              <a:latin typeface="Arial"/>
            </a:endParaRPr>
          </a:p>
        </p:txBody>
      </p:sp>
      <p:sp>
        <p:nvSpPr>
          <p:cNvPr id="92" name=""/>
          <p:cNvSpPr txBox="1"/>
          <p:nvPr/>
        </p:nvSpPr>
        <p:spPr>
          <a:xfrm>
            <a:off x="576360" y="1680840"/>
            <a:ext cx="7866000" cy="4414680"/>
          </a:xfrm>
          <a:prstGeom prst="rect">
            <a:avLst/>
          </a:prstGeom>
          <a:noFill/>
          <a:ln w="0">
            <a:noFill/>
          </a:ln>
        </p:spPr>
        <p:txBody>
          <a:bodyPr anchor="t">
            <a:normAutofit fontScale="96000"/>
          </a:bodyPr>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y mother’s labour, my father was in his study, praying for a safe and speedy delivery. Nanny rushed in with the news and was given the traditional tip—a gold sovereign.Later, when the room had been tidied and Mother put to bed, he came in to see her. My parents had already three children, two boys and a girl. When the boys were born, Father congratulated Mother with a quotation from Firdowsi’s </a:t>
            </a:r>
            <a:r>
              <a:rPr b="0" i="1" lang="en-US" sz="1800" spc="-1" strike="noStrike">
                <a:solidFill>
                  <a:srgbClr val="000000"/>
                </a:solidFill>
                <a:latin typeface="Arial"/>
              </a:rPr>
              <a:t>The Book of King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fficient unto women is the art of</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ing and raising sons as brave as lion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sister was a welcome variety, and “such a pretty little girl”. I just happened.</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Father have preferred a boy, as men always did in those days? I once asked him:</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Not because boys are better, but because women suffer more. One worries about their future; one wonders into whose hand they will fall …”</a:t>
            </a:r>
            <a:endParaRPr b="0" lang="en-US" sz="1800" spc="-1" strike="noStrike">
              <a:solidFill>
                <a:srgbClr val="000000"/>
              </a:solidFill>
              <a:latin typeface="Arial"/>
            </a:endParaRPr>
          </a:p>
          <a:p>
            <a:pPr marL="3290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B4C04EF-98BE-4376-BACD-739F64470E3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as born into a new and rapidly changing Persia. The veil had already been abolished and women were emancipated; they could go to school and university and take up professions. By the time I grew up, other freedoms and equalities were taken for granted and more reforms were planned to balance the law in their favour. Yet many found it hard to accept these improvements </a:t>
            </a:r>
            <a:r>
              <a:rPr b="0" lang="en-GB" sz="1800" spc="-1" strike="noStrike">
                <a:solidFill>
                  <a:srgbClr val="000000"/>
                </a:solidFill>
                <a:latin typeface="Arial"/>
              </a:rPr>
              <a:t>and adjust their attitud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od knows how far women will go once they start enjoying their liberty” was the reason for apprehension. Certainly I caused my parents endless trouble, with my radical adolescent politics, my settling in Europe and subsequent marriage to an Englishman. Perhaps my father foresaw all this at the time of my birth; perhaps it was all “written on my brow”? Ah, that writing on the brow! They said that, when a baby was born, an angel wrote its destiny on its forehead with an invisible ink, and that nothing anyone later did could alter it.</a:t>
            </a:r>
            <a:endParaRPr b="0" lang="en-US" sz="1800" spc="-1" strike="noStrike">
              <a:solidFill>
                <a:srgbClr val="000000"/>
              </a:solidFill>
              <a:latin typeface="Arial"/>
            </a:endParaRPr>
          </a:p>
        </p:txBody>
      </p:sp>
      <p:sp>
        <p:nvSpPr>
          <p:cNvPr id="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AB64FD7-F53F-43C3-AE0A-D2187CC4BA4D}"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8"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tune-telling charlatans played on this belief and claimed that they could read what was inscribed “on the brow” and change it with potions and talismans. As a philosopher, my father was no Determinist, and did not believe in any of this superstition; nothing was “written” and no one could foretell the future since we make it as we go along. Naturally, such factors as heredity and circumstance play a part, but basically we shape our own destini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he years, scholars and mystics came to see my father from all over the world, among them a famous Indian yogi, when I was a year old. Apparently he did have an extraordinary power to foresee the future, for he gave a broad outline of every member of our family’s destin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my turn came he shook his head and sai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he won’t stay with you long … her life is elsew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BDF577F-6B4B-4B8E-AE28-40531485AEFD}"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y mother laughed incredulous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Oh yes, she’ll marry the Governor of a Province or an Ambassador and trave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Yogi smiled and said no more. Perhaps it is all “written” after a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from a memoir by Shusha Guppy, </a:t>
            </a:r>
            <a:r>
              <a:rPr b="0" i="1" lang="en-US" sz="1800" spc="-1" strike="noStrike">
                <a:solidFill>
                  <a:srgbClr val="000000"/>
                </a:solidFill>
                <a:latin typeface="Arial"/>
              </a:rPr>
              <a:t>The Blindfold Horse, Memories of a Persian Childhood (1988)</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14DCE197-D346-435F-B604-AB98FBB5396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ood to excellent analysis may al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differences in tone and draw some conclusions as to how tone conveys contexts of time and place</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effects of the techniques of the two text types</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relationship between text type and purpose and content</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fer a cogent comparison between the two text types that offers clear understanding of intent, context, content and audie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E368FB4-011A-411D-A6AF-48F44A7A101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07"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e how justice is represented and understood in at least two/ both works studi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identify justice as it is presented in the works and in relation to context. It will support that identification with textual examples. The answer will also address the significance of justice in the works and the methods by which that significance is achiev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offer a more nuanced understanding of the idea of justice as presented in the works, perhaps noting that the writer</a:t>
            </a:r>
            <a:r>
              <a:rPr b="0" lang="ja-JP" sz="1800" spc="-1" strike="noStrike">
                <a:solidFill>
                  <a:srgbClr val="000000"/>
                </a:solidFill>
                <a:latin typeface="Arial"/>
              </a:rPr>
              <a:t>’</a:t>
            </a:r>
            <a:r>
              <a:rPr b="0" lang="en-GB" sz="1800" spc="-1" strike="noStrike">
                <a:solidFill>
                  <a:srgbClr val="000000"/>
                </a:solidFill>
                <a:latin typeface="Arial"/>
              </a:rPr>
              <a:t>s attitudes towards justice conflict with the attitudes of the societies being presented in the works, thus demonstrating an understanding of context. Answers will offer a clear understanding of the significance of justice and how it is presented. Examples chosen will be precise and pertinent.</a:t>
            </a:r>
            <a:endParaRPr b="0" lang="en-US" sz="18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1F904E5D-58EA-44BB-8604-717FCB85598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08:17:46Z</dcterms:created>
  <dc:creator> </dc:creator>
  <dc:description/>
  <dc:language>en-US</dc:language>
  <cp:lastModifiedBy>Tony Bellew</cp:lastModifiedBy>
  <dcterms:modified xsi:type="dcterms:W3CDTF">2013-01-18T22:25:17Z</dcterms:modified>
  <cp:revision>14</cp:revision>
  <dc:subject/>
  <dc:title>Specimen paper examples for Language and literature  First Exams 2013</dc:title>
</cp:coreProperties>
</file>